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CA5-2D9C-4232-9158-B9867341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76C-3DA9-4819-A815-99FE9DD6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FFB-C880-41EA-B1FC-AA9F2257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D20F-65D9-4E9E-8819-1D5AE81D1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548-22D6-4A3C-9E66-C5A7A1E1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2536-ECB5-4AD6-B1C0-5FA8B47B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D9D0-19F9-43C7-A57A-32F12CD9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2B66-C9FE-4546-8540-F730CD57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9F61-D78F-4A96-B3C8-A1D524A4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EBB-384D-4611-862F-7683BE0E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D8A-8F06-45E8-ACD4-52F05058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173C-EADD-4F2B-910B-C2D56C75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C8B2A-C076-448A-878A-3635055ECA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89B38-3BCE-4B3D-89AF-90E47837A0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e6fdfa"/>
              </a:gs>
              <a:gs pos="100000">
                <a:srgbClr val="a2f7ec"/>
              </a:gs>
            </a:gsLst>
            <a:lin ang="5400000"/>
          </a:gradFill>
          <a:ln w="9360">
            <a:solidFill>
              <a:srgbClr val="31ab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sourcing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Fa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o Musk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Outsourc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gradFill rotWithShape="0">
            <a:gsLst>
              <a:gs pos="0">
                <a:srgbClr val="effde6"/>
              </a:gs>
              <a:gs pos="100000">
                <a:srgbClr val="c6f7a2"/>
              </a:gs>
            </a:gsLst>
            <a:lin ang="5400000"/>
          </a:gradFill>
          <a:ln w="9360">
            <a:solidFill>
              <a:srgbClr val="76ab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What do you know about outsourc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Read: Business Week article: Commentary: Outsourcing Jobs: Is it Bad? 3)Create a T-chart-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Discussion: The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rpose: What are the positives and negatives of Outsourc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sential Questions:1) What advantages might a business have from outsourcing? What are some disadvantages?a.If you owned a business, how might you resolve the question of outsourcing or not? How would you respond to your critic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iness Week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pdf- save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rguments for and against outrsour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18:34Z</dcterms:created>
  <dc:creator>AWL Loaner</dc:creator>
  <dc:description/>
  <dc:language>en-US</dc:language>
  <cp:lastModifiedBy>AWL Loaner</cp:lastModifiedBy>
  <dcterms:modified xsi:type="dcterms:W3CDTF">2011-04-21T12:25:00Z</dcterms:modified>
  <cp:revision>1</cp:revision>
  <dc:subject/>
  <dc:title>Outsourcing: Pros and Cons</dc:title>
</cp:coreProperties>
</file>